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1227-2CC0-44D9-950A-263D45E566EA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3C3-41B0-4873-B8A7-E2CB82E7C1F9}" type="slidenum">
              <a:rPr b="0" lang="cy-GB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B60-8E3A-4CD3-B9F9-8C48F58D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616-9497-455D-AFF9-DD0103D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A16-3103-490B-873B-BF6EF317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521-AFE0-4AD5-9484-D6F27739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F72-B4CF-4203-ACD6-28716D41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2A5-C2A5-4098-AAB4-2222BC6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220-3660-49F8-83C4-D500213B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9E80-9FB6-48CC-863B-2AD9CC1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C9B3-12BD-4699-A9C9-36E0790C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E02-948D-49F2-A03E-E441C34B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5F2B-66B6-4D8B-9D35-00461EA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E32-4E0F-49A3-8010-F40E035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6C2-D42C-475F-8947-F4D6C59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022-7ABD-4DA3-B858-6F50344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DAB-01A7-4A82-AB41-3CFC59F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80F-683E-4E21-B2DC-E09E749C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CE3-CEC4-4E19-AAC0-207899DA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B91-7EE7-4738-9E3D-3CEE19C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C0F-872C-4E75-B763-22EF5AB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7C4-1FAB-4FA4-AD01-73BBC2A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321-99B9-4525-8568-95DF51F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54A-729F-45EA-AC3C-74706FC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EC7-EE0C-47D5-AB41-3C910F9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775-C49C-4846-BF26-7308AF7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B55-800D-4229-ABD4-5A24D1F68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393-A6D0-49DC-AB7B-34059CB40AF0}" type="slidenum">
              <a:rPr b="0" lang="en-GB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tegorïa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U 1.1.12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sebu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wy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defnyddio delweddau, cymeriadau a / neu sefyllfaoedd o hysbysebion eraill neu o lyfrau, ffilmiau, rhaglenni teledu, digwyddiadau hanesyddol ac yn y bla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Rhyngdestuno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ymlrwy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tynnu sylw at ba mor hawdd yw gwneud rhywbeth, ”Credyd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Mewn Munud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”, ”Ffoniwch am Fenthyciad”, ‘£00000 i’w Wario Heddiw’, ‘Talu Eich Holl Ddyledion’ ‘Y ffordd hawdd’  WONGA, Benthyciadau Diwrnod Cyflog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Llechwrai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Erthyglau ac eitemau nodwedd nad ydynt yn ymddangos i fod yn hysbysebion ar yr olwg gyntaf. Maen nhw’n aml yn edrych fel rhan o ddull neu steil arferol y papur newydd / cylchgrawn – Hysbys-eitemau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l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wyddom mai hysbyseb ydyw, ond eto nid yw’n ymddangos bod ganddo lawer i’w wneud â’r cynnyrch. Yn fwy tebygol o fod yn ymwneud â’i glyfrwch ei hun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irgelw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im ond weithiau, mae hysbyseb mor slic fel bod y cynnyrch sy’n cael ei hysbysebu’n aro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s yn ddirgelwch llwy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ydymdeim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mynd at galon y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gwneud i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 chi deimlo’n euog er mwyn ennill eich cydymdeimlad, eich sylw ac yn fwy na dim eich arian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tamp y Sê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Mae’r cynnyrch yn cael ei argymell neu ei ategu gan berson, wyneb neu lais enwog. Weithiau, maen nhw’n dweud wrth y defnyddiwr pa mor dda yw’r cynnyrch, dro arall mae’r cysylltiad sydd ganddynt, i bob golwg, â’r cynnyrch yn rhoi hwb i werthiannau, neu efallai mai ond llais y person enwog a ddefnydd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(gelwir hyn hefyd yn </a:t>
            </a:r>
            <a:r>
              <a:rPr b="1" i="1" lang="sv-SE" sz="2800" spc="-1" strike="noStrike">
                <a:solidFill>
                  <a:srgbClr val="40458c"/>
                </a:solidFill>
                <a:latin typeface="Tahoma"/>
              </a:rPr>
              <a:t>Celebrity Endorsement</a:t>
            </a: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Nodd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 digwyddiad sy’n aml yn gysylltiedig â chwaraeon yn cael ei noddi gan y cwmni. Mae’n cadw enw’r cynnyrch / brand yng nghof y cyhoedd ac yn creu cysylltiadau da ar gyfer y cynnyrch / brand ym meddwl y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anu a Dawns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defnyddio cerddoriaeth / perfformiad – newydd neu wedi’i ddwyn – a dawns i wneud argraff, e.e. Halifa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Rhyngdestuno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Sicrwyd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Diogelwch, hapusrwydd, cysur. Mae’r hysbysebion hyn yn awgrymu y bydd y cynnyrch yn sicrhau hapusrwydd teuluol. Os ydych wirioneddol yn caru eich teulu, byddwch yn defnyddio’r cynnyrch hwn. Mae’r hysbyseb yn ecsbloetio’r ffaith bod angen i bobl deimlo’n ddiogel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Stat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’r cynnyrch yn ddrud neu o ‘ansawdd uchel’ a / neu’n cael i ddefnyddio gan bobl gyfoethog ac enwog. Mae cefndiroedd moethus yn awgrymu ffordd y fyw y dylai’r defnyddiwr fod yn ceisio anelu 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Rhy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 addewid o gariad, rhamant ac apêl rhywiol yn cael ei roi i bobl sy’n prynu’r cynhyrchion hyn, neu fe ddefnyddir y cynnyrch i dynnu a dal sylw’r defnyddi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Arbed ari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Mae’n dibynnu’n llwyr ar y pris neu ar ostyngiad mewn pris i berswadio’r defnyddiwr i’w bryn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</a:t>
            </a: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Gwyddon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Yn awgrymu </a:t>
            </a:r>
            <a:r>
              <a:rPr b="1" lang="cy-GB" sz="2800" spc="-1" strike="noStrike">
                <a:solidFill>
                  <a:srgbClr val="40458c"/>
                </a:solidFill>
                <a:latin typeface="Tahoma"/>
              </a:rPr>
              <a:t>bod gan y cynnyrch ‘gynhwysydd cudd’, fformiwla – fel arfer bydd yr hysbysebion hyn yn cael eu hategu gan ‘bobl broffesiynol’ ac yn, neu efallai’n cynnwys iaith sy’n swnio’n arbenigol, technegol neu wyddonol </a:t>
            </a:r>
            <a:r>
              <a:rPr b="1" lang="sv-SE" sz="2800" spc="-1" strike="noStrike">
                <a:solidFill>
                  <a:srgbClr val="40458c"/>
                </a:solidFill>
                <a:latin typeface="Tahoma"/>
              </a:rPr>
              <a:t>– bifidum digestiv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wir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Defny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ddir pobl neu sefyllfaoedd gwirion, hurt, od neu annhebygol i ddal sylw’r defnyddiwr / pryn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Hysbysebion doniol /chwerthinllyd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Gwasanaetha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gwneud cyhoeddiad cyhoeddus, ceisio perswadio neu roi gwybodae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Hysbysebion gwasanaeth cyhoed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du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ahoma"/>
              </a:rPr>
              <a:t>Technegau Hysbyseb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Cynhaliae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Yn pwysleisio pa mor ffres, da neu naturiol etc yw eitemau, yn enwedig bwyd neu ddi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(Cynhyrchion Bwyta’n </a:t>
            </a:r>
            <a:r>
              <a:rPr b="1" lang="cy-GB" sz="3200" spc="-1" strike="noStrike">
                <a:solidFill>
                  <a:srgbClr val="40458c"/>
                </a:solidFill>
                <a:latin typeface="Tahoma"/>
              </a:rPr>
              <a:t>Iach / Ffordd o Fyw</a:t>
            </a:r>
            <a:r>
              <a:rPr b="1" lang="sv-SE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2:49:54Z</dcterms:created>
  <dc:creator>Castell Alun HS</dc:creator>
  <dc:description/>
  <dc:language>en-US</dc:language>
  <cp:lastModifiedBy>TimData</cp:lastModifiedBy>
  <dcterms:modified xsi:type="dcterms:W3CDTF">2015-05-06T18:19:48Z</dcterms:modified>
  <cp:revision>8</cp:revision>
  <dc:subject/>
  <dc:title>Advertising Strategies</dc:title>
</cp:coreProperties>
</file>